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609-33D6-4941-A47A-D5814170B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humanizing environment. Feel inferior, unimportant, deprived of what makes them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sense of control ov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may  not always have a tv or family members or any way to engage themselves in a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thing sounds (waterfall, rainforest, ocean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resources could include general information on preventative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a sense of time, and reconnects the patient to the outsid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772-ADDB-4620-9187-316ED0E6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796-F207-4CFB-B3D8-030796C8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CC4-2722-4F28-B5EF-4DF68A73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FA5-1A5C-40D1-87DB-CDC1D9BF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A5C3-7671-49BC-8839-8BD6F7D0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5C84-C512-4201-BF41-A19F8838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DACD-386C-474C-866C-182DD3C3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592E-B716-4B97-ACE9-BA199AE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1914-CC31-454C-8B50-B65ABB2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91F9-9ADE-4738-BFE0-A865677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A219-5B3E-4ACF-A8A7-9FEC708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00B-A7A8-4A58-988D-ACCF2EA4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E61B-4EB5-484B-B94F-77051D2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D409-A167-4BD5-8524-6A06698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4AA7-0BF8-454B-B616-603681CF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78E8-A2F6-40B2-97D3-FA1D1C84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2788-877C-4830-B540-85F2FC8B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23E-341C-44DC-9EDA-2D57395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347-766E-4352-89FC-C19D745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AB1-B63C-42CF-996B-647EC01E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AF1-9577-424E-A2BD-FBB8EF7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88F-5DAF-4A0C-8231-F05C6CF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2A4-1812-4B2F-BE6F-74CAF2B7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BA1-A4DA-4267-AF96-9F8D9A2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326F-9003-474B-A9F7-202D21A321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605C-633D-44A0-B17E-509566B571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Improving Patient Experience in Treatment Room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shama Bhat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ober 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roline Castel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yn R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Problems associated with treatment room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ile waiting for medical care, test results, and discharge, patients may experienc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ss of control over body and immediat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isorientation within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isconnection from outs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so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ulner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or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g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99420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527-8EC9-4E63-9511-59B738BF9F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Problem Defini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cuity, room size and layout differ within the ED, but this sense of being “stranded” is almost always present. We wanted to account for all these differences, and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reorient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reconnect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patient back to having a sense of control over their environment, and to the outsid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96F-F421-44A3-AC7D-0D00606EF4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Design Solution: Use Positive Engagement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Interactive Touch Screen at Bedside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ight dimmer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V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oothing s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jector theme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ducation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Hospital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775320" cy="26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9AA-B0CA-49AD-BE6A-E9CAB3E77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Project Scenic Views onto Wall, Curtain or Ceiling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876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iterature shows that views of nature can lower stress, reduce use of pain medication and improve overall patient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“Lightwee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nects patient to what is going on in the outsid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owth depends on sunshine, rainfall, and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uman traffic affects poll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9996" t="26879" r="45821" b="26038"/>
          <a:stretch/>
        </p:blipFill>
        <p:spPr>
          <a:xfrm>
            <a:off x="5715000" y="1600200"/>
            <a:ext cx="297036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E1F-2410-4099-8AC7-9BFF097D44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Lighting Control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aditionally can only have overhead light On or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Dimmer would allow for control over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Observed a workaround where a patient used procedure lamp flipped towards the ceiling to create ambient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278240" cy="29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722-12E2-42BA-9A70-7A8537C4DF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active Hospital Map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hows patients where they are, where other units are, and what happens in different areas of the hosp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olor-co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3809880"/>
            <a:ext cx="7543800" cy="1828800"/>
            <a:chOff x="380880" y="3809880"/>
            <a:chExt cx="7543800" cy="1828800"/>
          </a:xfrm>
        </p:grpSpPr>
        <p:sp>
          <p:nvSpPr>
            <p:cNvPr id="112" name=""/>
            <p:cNvSpPr/>
            <p:nvPr/>
          </p:nvSpPr>
          <p:spPr>
            <a:xfrm>
              <a:off x="2514600" y="3809880"/>
              <a:ext cx="2743200" cy="182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9920" y="39765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You are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3962520"/>
              <a:ext cx="685800" cy="914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4876920"/>
              <a:ext cx="1752840" cy="533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2680" y="3962520"/>
              <a:ext cx="1752840" cy="914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4876920"/>
              <a:ext cx="685800" cy="533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3962520"/>
              <a:ext cx="152640" cy="533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1280" y="4343400"/>
              <a:ext cx="914400" cy="1522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4267080"/>
              <a:ext cx="304920" cy="304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7960" y="4191120"/>
              <a:ext cx="1447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5181480"/>
              <a:ext cx="990720" cy="228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752480" y="5333760"/>
              <a:ext cx="1371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880" y="51814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Waiting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D02-DF46-4B8B-ABDA-B21AD9C52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9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2:48:38Z</dcterms:created>
  <dc:creator>Caroline Castellino</dc:creator>
  <dc:description/>
  <dc:language>en-US</dc:language>
  <cp:lastModifiedBy>Caroline Castellino</cp:lastModifiedBy>
  <dcterms:modified xsi:type="dcterms:W3CDTF">2008-10-09T18:59:01Z</dcterms:modified>
  <cp:revision>18</cp:revision>
  <dc:subject/>
  <dc:title>Effective and Pleasant Treatment Rooms</dc:title>
</cp:coreProperties>
</file>